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C256-EC48-4847-9C4C-EA3D566369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metodiky objektově orientované analýzy a návrhu (Coad-Yourdon, OMT - Rumbaugh, Booch, OOSE- Jacobson, OOMT) používaly různou notaci pro vyjádření prvků návrhu. Pro výrobce CASE nástrojů bylo problematické zvolit notaci, kterou budou podporovat. Proto firma Rational Software Corporation povolala 3 nejvýznamnější představitele objektově orientovaných metodik (Grady Booch, Jim Rumbaugh, Ivar Jacobson), kteří se spojili a společně vypracovali jednotnou notaci nazvanou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ed Modelling Language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terá byla poprvé publikována v roce 1995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 vývoje se liší v závislosti na tradicích a kultuře různých firem, velikosti projektu a jeho ty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ílání několika zpráv v sekvenci se vyznačuje posloupností šipek umístěnými v časové posloupnosti odshora dolů podle své časové posloupnosti. Současně se může vyjádřit také „časová délka běhu činnosti (aktivity objektu)“  objektu pomocí rozšířené časové os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diagramu se pomocí zpráv znázorňuj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v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práv dané užitné činnosti. Vzniká tak scénář zpracování (běhu činnosti) jako velmi přehledný diagram sekvence spolupráce objekt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E38-AED0-4DBF-BC57-66B2EAE8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C68-3570-44CD-B6D2-017642B7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3AE-ABF1-4E1E-BEFD-60B853EB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501-5B46-487D-84A0-F23FFDB0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186-076B-4BF3-9B7D-BDCF03E3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360-128D-4F54-9FEE-37E2697E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DDB-BA6E-42A9-A39B-78376950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28D-54C0-4845-88BF-8520442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494-5F4E-412B-A103-6A9BD321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465-10C7-421A-8660-DDC4A051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12D-6A16-4538-BAB1-73A433B9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A48-CD70-41A2-B7DF-C15CE0A4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5645-8EF4-4F3C-B429-CCB74E239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ktově orientovaná analýza a návr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ML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_115    6.předná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na Buchalcev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ísto CRC modelov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9051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se cas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959360"/>
            <a:ext cx="1752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typ uživ. rozhr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3352680"/>
            <a:ext cx="1218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tří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35916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362320"/>
            <a:ext cx="83844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19520" y="4038480"/>
            <a:ext cx="914400" cy="144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809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BEC-729D-44F5-8EB5-6ACD24F0D7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ified Modeling Languag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notný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azyk pro modelová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o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 definovaný organizací OMG – Object Manage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uží pro zachycení výsledků analýzy a návrhu pomocí různých typů diagram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ní to metodika – využívá se ale v řadě metod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uje pro něj řada CASE nástroj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uml2" descr=""/>
          <p:cNvPicPr/>
          <p:nvPr/>
        </p:nvPicPr>
        <p:blipFill>
          <a:blip r:embed="rId1"/>
          <a:stretch/>
        </p:blipFill>
        <p:spPr>
          <a:xfrm>
            <a:off x="380880" y="1303200"/>
            <a:ext cx="1760760" cy="12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615-DCA1-402E-8605-6C6FB5E367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orie UM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ůvodně velké množství OO metodik s různými notac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iona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e spojil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nejvýznamnější představite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odik </a:t>
            </a:r>
            <a:r>
              <a:rPr b="0" lang="cs-CZ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Grady Booch,</a:t>
            </a:r>
            <a:r>
              <a:rPr b="0" lang="cs-CZ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Jim Rumbaugh,</a:t>
            </a:r>
            <a:r>
              <a:rPr b="0" lang="cs-CZ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Ivar Jacobso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ali jednotnou notaci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ed Modeling Language UM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 v roce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současnosti verz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ML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aha z modelů automaticky generovat kód  - základ přístupu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del Driven Architectu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M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EB8-2D0A-4063-9641-E625C38838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L není metodik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L j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azyk pro vyjádře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vků analýzy a návrhu, ale nepopisuje proces výv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jednotit se na notaci je jednodušší než na postup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UML je založena řada metod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. Rational Unifie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znam slova „unified“ v 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L reprezentuje sjednocení myšlenek mnoha lidí a fi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L pokrývá různé aspekty procesu vývoj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868-2390-44F8-8761-5DB6E68C41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computer aided software engineering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nástroje pro UM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ahrnují editory různých typů diagram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řížové reference mezi prvky různých diagramů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troly konzisten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generování dokumenta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generování kó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verse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ational Ro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radigm Plu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ogether Control Cent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isual UM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wer 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bo jen nástroje pro kreslení  - MS Vis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CEB-5D32-4C5F-95B5-6AC2B97195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iagramy UM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UML 2.0 je 13 diagramů, které můžeme rozděli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kategori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ramy struk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ramy 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ramy interak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539-54F0-4F5F-BBA1-1471FE69D2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1523880"/>
            <a:ext cx="2895480" cy="3200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057400"/>
            <a:ext cx="2057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agr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uk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ick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57200"/>
            <a:ext cx="2743200" cy="32767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838080"/>
            <a:ext cx="2133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agr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ynamick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037760" y="3733920"/>
            <a:ext cx="2971800" cy="1143000"/>
          </a:xfrm>
          <a:custGeom>
            <a:avLst/>
            <a:gdLst>
              <a:gd name="textAreaLeft" fmla="*/ 519840 w 2971800"/>
              <a:gd name="textAreaRight" fmla="*/ 2155320 w 2971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59" hR="21600" stAng="10800000" swAng="-5400000"/>
                <a:lnTo>
                  <a:pt x="11885" y="21600"/>
                </a:lnTo>
                <a:arcTo wR="7559" hR="21600" stAng="5400000" swAng="-2682296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5" y="7200"/>
                </a:lnTo>
                <a:arcTo wR="7559" hR="21600" stAng="2717704" swAng="2324319"/>
                <a:lnTo>
                  <a:pt x="9722" y="20697"/>
                </a:lnTo>
                <a:arcTo wR="7559" hR="21600" stAng="5757978" swAng="5042022"/>
                <a:close/>
              </a:path>
              <a:path fill="darkenLess" w="21600" h="21600">
                <a:moveTo>
                  <a:pt x="0" y="0"/>
                </a:moveTo>
                <a:arcTo wR="7559" hR="21600" stAng="10800000" swAng="-5400000"/>
                <a:lnTo>
                  <a:pt x="11885" y="21600"/>
                </a:lnTo>
                <a:arcTo wR="7559" hR="21600" stAng="5400000" swAng="357978"/>
                <a:lnTo>
                  <a:pt x="9722" y="20697"/>
                </a:lnTo>
                <a:arcTo wR="7559" hR="21600" stAng="5757978" swAng="5042022"/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800600"/>
            <a:ext cx="2514600" cy="1523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518148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agr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k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577-6E86-4471-B193-8ACB98E2C2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iagramy struktu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ycují prvky nezávislé na čase - třídy, objekty, komponenty, z nichž je tvořen systé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iagram tří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las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ram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iagram vnitřní struktu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Structure Diagra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vě v UML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chycuje spolupráci prvku (třídy, komponenty , případu užití) s jinými částmi systé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iagram objekt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Object Dia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 kompon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onen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ram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 nasaze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loymen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ram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 balíčk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ag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ram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739-50DF-49B0-A9B9-493E8E7A83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iagramy chov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ycují chování systému nebo procesu, ukazují, jak systém skutečně pracuje – jak reaguje na vstupy, událos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 uži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Use Cas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ram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chycuje požadavky na systé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mezuje systém vůči okol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 aktiv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ivit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ram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ový diagra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diagramy interakcí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iz následující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42A-044E-4634-BDAC-4639144502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ramy interakc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množina diagramů chování, které zachycují interakce objekt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venční diagra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en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ram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munik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municatio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ram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hled interakc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Overview Diagra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arianta diagramu aktivit, která zachycuje řízení toku v rámci systé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iagram časová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Diagra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chycuje změny stavu nebo podmínek objektu nebo role ve vztahu k č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5E7-E562-4F3A-B7A3-DD885173EE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v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ávrh SW aplikace, který  předchází kód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ěco jako plán, výkres stav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představuje určitý pohled na vyvíjenou aplik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ěchto pohledů je více – různé modely – vazby mezi mod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680" y="1752480"/>
            <a:ext cx="80010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rázek je cennější než tisíc slov, protože umožňuje pohlížet na věc z různých pohledů a zjednoduš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AA9-E449-473B-B518-B931F6F3B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hled prvk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ML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vky struktu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1443240" cy="1004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8120" y="175248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hra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600200"/>
            <a:ext cx="1143000" cy="9144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266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az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380880" y="3124080"/>
            <a:ext cx="4260600" cy="167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657600" y="3276720"/>
            <a:ext cx="2664000" cy="110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2F1-C67E-4E09-8CF8-059B5E2D6F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hled prvk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ML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ztah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0574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600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oci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903840" cy="662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0" y="2362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ace-specializ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ávis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8769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124080" y="487656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64832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iz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39625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38098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200400" y="39621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6FE-9F69-47A3-A17F-818A230E19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líčk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295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uží k uspořádání prvků diagramů do skupin (podsystém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480" y="2476440"/>
            <a:ext cx="5380200" cy="36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253-6BA8-4744-9D1B-5522A505B0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známk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uží k vysvětlení jednotlivých prvků 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2814480"/>
            <a:ext cx="4668840" cy="306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CFA-A0DF-4460-A226-AA73F8A9EC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hled prvk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M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vky chován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1752480"/>
            <a:ext cx="167652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90512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114800" y="762120"/>
            <a:ext cx="3549600" cy="2894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086600" y="2971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kv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962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495288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2670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943600" y="4572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prá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029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luprá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352680"/>
            <a:ext cx="1600200" cy="533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495680"/>
            <a:ext cx="160020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tiv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C98-CCF5-45AD-A747-879A49B6C6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reotyp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37160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í z existujících prvků UML vytvořit prvky nové podle potře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teré stereotypy jsou již definová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E1D-DC19-4887-854D-1D0F5CB5DD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iagram užití </a:t>
            </a:r>
            <a:br>
              <a:rPr sz="3200"/>
            </a:b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se Case diagr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pisuje chování systému z hlediska uživate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achycuje způsob, jakým bude systém použív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ledá přínosy systému pro uživat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v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yp uži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Use case, případ užit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kuje interakci mezi uživatelem a systéme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ktor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ctor, aktér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stavuj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živatele systému nebo jiné systém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měňuje si se systémem inform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ystém může mít stovky uživatelů – aktor reprezentuje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tegorii uživatelů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94520" y="4724280"/>
            <a:ext cx="180648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34120" y="3000240"/>
            <a:ext cx="3429000" cy="15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92F-F8A6-42E0-B0F8-C65ED91CCA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 bankoma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nky X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živatel -zákazník banky XY si pomocí bankomatu může vybrat z účtu pení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živatel -zákazník banky XY si pomocí bankomatu ověří zůstatek na účtě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živatel, který-není zákazník banky XY bude moci provést operace 1 a 2 jen pokud je banka připojena do sítě a za tuto činnost zaplatí vyšší poplat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286000"/>
            <a:ext cx="3886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omat musí mít mód pro výběr peněz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omat vyžaduje identifikaci uživate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omat musí být schopen komunikovat s jinými bankam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5238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kace požadavků založená na případech 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15238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kace požadavků neurčovaná případy 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6019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se Case drive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E1D-7350-4EE6-9D41-2D365A6B6D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stup založený na případech užití - výho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azuje, jak jednotlivé funkčnosti systému dohromady tvoří hodnotu pro zákazník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ém je popisován ve formě srozumitelné pro zákazníka – a tak může zákazník již při specifikaci požadavků zjistit, zda budovaný systém odpovídá jeho potřeb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živatel bude schopen určit priority požadav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733-F103-4BE6-B86A-61311478FC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bříček student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kac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má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kyt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ovat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o studentech a  jejich studijních výsledcích. Součástí aplikace je funkce sestavení žebříčku studentů. Aplikac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umožn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dagog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ů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vyhledat údaje o studijních výsledcích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ů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jsou získávána importem ze školního informačního systém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toř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ílem aktora je zobrazit si žebříček studentů a provádět další dotazy nad seznamem studentů a předmět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á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átor provádí aktualizaci dat o studentech z externího systému. Spouští výpočet kritéri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 s daty student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í systém, který obsahuje potřebná data pro sestavení žebříčk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74E-1237-4674-99DB-0CC9586E33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kladem objektově orientovaného návrhu jsou objekty a tří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e jak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 identifikov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ří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 určit, jak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ribu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jí mí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 určit, jak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jí mí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 tyto skutečnosti zachyt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69E-7773-4CAC-8F44-F73F0F1E4C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bříček student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diagram užit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838080"/>
            <a:ext cx="30477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677880"/>
            <a:ext cx="670536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67A-C247-4BC4-B065-5B749555FE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ře čitelné diagramy užit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žíva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ednoduché a srozumitelné názv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o aktory a typy užití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to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používa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statná jmé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ypy uži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užíva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ovesa nebo slovesná jmé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obné aktory umísťovat vedle seb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obné typy užití umísťovat vedle seb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křížit spoj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BAC-A966-4CDC-87B5-2EF29768B9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ram užití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vk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p 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tah (rel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ztah mezi aktorem a typem 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ztah mezi typy 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clude (u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ědič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3429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426708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490-F5B9-4B62-AD84-2AD097BA48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ztah includ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dříve us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stavuje vyhledávání znovupoužitelnosti v systé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jako volání podprogramu v typech užití – vložený typ užití je zcela zapouzdřen do typu užití, do kterého se vkládá, ten tedy zahrnuje veškerou funkčnost včetně funkčnosti vložené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žívejte jen tehdy, jestliže víte přesně, kdy bude vložený typ užití vyvol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739-E272-47B7-AC5B-9904FE3FDE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ztah exte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edstavuje rozšíření typu užití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to vztah zobecnění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šiřující typ užití má vše co rodičovský typ užití, ale přidává další aktivity, někdy i parale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to něco jako HW přerušení, v tom smyslu, že nevíme, kdy bude rozšiřující typ užití zavolán (je podmíně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FCF-1631-4939-ABCF-B72B335064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iagram užití – vztahy include a extend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le standar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93720" y="1981080"/>
            <a:ext cx="7755120" cy="4114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057400" y="3429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657600" y="2514240"/>
            <a:ext cx="144792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429000"/>
            <a:ext cx="144792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572000" y="3962160"/>
            <a:ext cx="83808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4419720"/>
            <a:ext cx="22860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9F0-C2E9-45D1-9C66-B48287628B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vní popis případů užití – slovní scénář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  Zobrazení žebříč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ivatel zadá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yp studi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interval semestrů. Poté se zobrazí žebříček studentů, kteří vyhovují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ným podmínká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bříček obsahuje údaje: identifikaci studenta, hodnoty kritéri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kový souč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a pořadí v žebříčku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el může zobrazit detail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braného studenta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330-1716-4676-9DCA-546D8F9E15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iagram tří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UM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lass diagra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68884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ký pohled na systé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zentuje strukturu tříd v rámci systém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aždé třídy zachycuje atributy a met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jadřuje vztahy mezi třídam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636-CCA5-4466-A678-6B3A7E3B9B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ří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2362320"/>
            <a:ext cx="6782040" cy="3657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32004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572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590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éno tří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rib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952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375-E95F-4710-91C3-7AD460EFA4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plná specifikace tříd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 diagramu tří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2362320"/>
            <a:ext cx="6782040" cy="3657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32004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572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590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éno tří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33440" y="3124080"/>
            <a:ext cx="6477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itelnost názevAtributu1 : typ = implicitní hodn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itelnost názevAtributu2 : typ = implicitní hodn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648320"/>
            <a:ext cx="655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itelnost operace1 typ výsledku(seznam parametr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itelnost operace2 typ výsledku(seznam parametr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EA8-C666-4A1C-960F-BA29676C4D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C kar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RC (Class-Responsibility-Collaborator) Car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noduchá, ale silná OO modelovací tech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C tým – uživatelé, analytici, vývojář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RC model je množinou CRC karet, na zadní straně – podrobnější popis tří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429000"/>
            <a:ext cx="50292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3429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411480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odpovědnos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411480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polupracovní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5E2-7B11-44A5-A80A-78DC2C9C65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ditelnost položek dle standard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 rámci balíč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81E-CDF4-4CDD-B7FC-A8A4028174A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 třídy Osob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960640" y="1981080"/>
            <a:ext cx="3220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112-F3E7-46A9-A44C-873C1D1584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 třídy Adresa – viditelnost polož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419640" y="1676520"/>
            <a:ext cx="18540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890-CD68-41D0-9A1F-45DC5A483D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vence v diagramu tří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méno tří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číná velkým písmen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čně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ycentrov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buty a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rovnat vle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malým písmen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ména abstraktních tříd a metod kurzív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C19-E77C-4EAD-A576-8B35C6AF4A4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lišení kandidátů na třídy a na atribu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didát na třídu - entita, která může sama o sobě existovat - napříkla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didát na atribut určité třídy - podstatné jméno, které samostatně neexistuje, ale je vlastností nějaké jiné entity - napříkla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říjmení stude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161-35A0-4C4E-AB5A-A49A8A53758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ěření, zda nemá být atribut třído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ba, zda má být určitý prvek třídou a nebo atributem nemusí být koneč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vek navrhneme jako atribut, ale později z něj můžeme udělat tří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říkl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res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CEE-1C3D-42F5-9FF4-5C3DEDB62C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ě třídy nebo dvě instance téže tří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a trvalého bydliště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a přechodného bydlišt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říd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tributy  ulice, číslo, město, psč, st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chny tyto atributy jsou u trvalého bydliště i u přechodného bydliš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y, které tříd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de poskytovat, se nijak neliší pro adresu trvalého a adresu přechodného bydliš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 vytvoříme třídu jed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říd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ložíme dvě instance téže tříd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1FC-870D-45C2-AF2D-F0EC83F124B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oci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je vztahy mezi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jekt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 komunikují, posílají si zpráv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ější objek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ískáv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 na vnitřní objek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enku a dočas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itřní objekt tedy není vlastnictvím vnějšího objektu, ale je mu jen dočasně zapůjčen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ává se formou paramet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slané zprávy (metod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ější objekt nemůže vnitřní objekt vytvářet ani ruš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997-2BAA-4FA0-93FE-B86E86F0849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oci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7652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86280"/>
            <a:ext cx="7315200" cy="3314520"/>
          </a:xfrm>
          <a:prstGeom prst="rect">
            <a:avLst/>
          </a:prstGeom>
          <a:ln w="0">
            <a:noFill/>
          </a:ln>
        </p:spPr>
      </p:pic>
      <p:pic>
        <p:nvPicPr>
          <p:cNvPr id="249" name="classDiagramAssocationNotation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467480" cy="897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62120" y="2666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říklad asoci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066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ace asoci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AA6-EF09-47D4-8886-B3AB87ED693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egac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ozi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v UML 2.0 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h asoci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ější objek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ahuje vnitřní objekt jako svou čá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j. vnitřní objekty skládají vnější objek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ta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ládání celku z čás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avidlo „je částí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 přit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ovídá za vytvoření a zrušení svých část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E0D-4D50-4B3A-83DF-92BB3D60980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řídy a odpovědnosti tří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didáti na třídu – vybrat podstatná jmé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ěco, co třída „zná“ nebo „dělá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říkl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říd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sob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á odpovědnost za své jméno, adresu, rodné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říd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á odpovědnost za velikost, počet dveří, může zastavit, 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jišťování odpovědností – vybrat slov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CEB-82CB-4ABF-AE09-E832E43C1A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 kompoz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3218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rot="21005400">
            <a:off x="3048120" y="3428640"/>
            <a:ext cx="685800" cy="45720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513600">
            <a:off x="3047760" y="3885840"/>
            <a:ext cx="685800" cy="45720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43B-0E37-44D0-9E07-66EF8B6DD78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 agregace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L 1.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32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1CB-0C9C-425E-9085-6ACD752D7E8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ásobnost asoci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uje, kolik instancí jedné třídy má vztah k jedné instanci asociované tříd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ávě jed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l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a ví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.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a a ví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o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.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a nebo jed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.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ný interval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d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př. 4.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6AC-26E9-43BB-B568-54DC70DBFDC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 v asociac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stavuje jeden konec asoci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ud není explicitně uveden název role, chápe se jako role název tří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inování role představuje pojmenování průchodu asociací od jednoho objektu k druhém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546-48F7-4C98-8018-5920A70638B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rol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9068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01000" cy="16700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20976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4324320" cy="21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E71-6A78-4841-BB8E-D2D137A4BA7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ce - specializ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ědičn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vztah mezi třídou a speciálním případem této tříd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koncept užitečný jak pro konceptuální modelování, tak pr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ávr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nadňuje modelování tím, že rozlišuje, co je stejné a čím se třídy liší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9C5-3B68-492B-8DE0-D283B498834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143000" y="309600"/>
            <a:ext cx="6934320" cy="658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03E-89EE-4D8E-8050-744CA8EAA48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idla pro  použití dědič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vádět jen když je možné použít pravid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dtříd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adtř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dtří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 podobná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jako nadtř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ístit podtřídu pod nadtří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ktní třídy – název kurzív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istá dědičnost – podtřída zdědí všechny atributy a veškeré chování – měli bychom se o ni snaž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553-4F1B-4E82-9342-F66105AEC4B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zhra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interfa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14400" y="1959120"/>
            <a:ext cx="3276720" cy="2309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79072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572000" y="2008080"/>
            <a:ext cx="4572000" cy="2298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14324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267080" y="4419720"/>
            <a:ext cx="1500480" cy="2133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971800" y="46483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5943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48769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umPocetHodinTy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kuj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ě viditelné ope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říd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čení jeji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836-BEFD-4B7D-ABAD-53B81F49B62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ekvenční diagram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diagra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chycuje grafick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ůběh zpraco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systém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br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loupnost z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ání zpráv mezi objek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používanější UML diagram pro dynamické model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jadřuje posloupnost operací (sekven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cí uspořádání zpráv (vodorovné čáry se šipka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vhodné jej uspořádat tak, aby pořadí zpráv bylo od levého horního rohu směrem doprava a dol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CA7-E94B-48D3-B561-6DA4C820204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laborator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polupracovní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lupracovník třídy A je jiná třída, která je využívána při realizaci určité odpovědnosti tříd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y je nutný spolupracovní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kud třída potřebuje informace, které sama nem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kud potřebuje změnit informace, které nemá – požádá jinou třídu, aby to uděl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spolupráci je jedna třída iniciát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5FF-E5A8-4400-AFF1-E474ACC514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užití sekvenčního diagram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cénáře případů 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dý Use Case, který je listem hierarchie lze chápat jako určitý scénář spolupráce objekt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ledává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e objekt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jaké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nnosti systém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á objekt vykoná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ze jej použít pro vyjádření složitých operací – způsob „vizuálního programová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BE7-0F93-4171-AEB4-7E0EAE505BF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kvenční diagra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ílání zpráv mezi objek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209680" y="1905120"/>
          <a:ext cx="4724640" cy="39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472464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7CD-8B04-4996-B310-7C4E33AC785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kvence zpráv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194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286000" y="1932120"/>
          <a:ext cx="5181480" cy="49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32120"/>
                    <a:ext cx="518148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509-E72E-427C-A060-131D32862C3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lasifikátor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assifi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e ca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ří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k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rávu lze poslat jak objektu, tak tříd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kt odpovídá vyvoláním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řída odpovídá vyvoláním metody třídy (metoda stati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tor se účastní aktivně scénářů případů 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345360" y="977760"/>
            <a:ext cx="1439640" cy="351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82B-2CD0-47BB-A817-F72788662F4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značení klasifikátor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říd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ktor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cto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me: Clas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čemž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nepovinné, když není uvedeno jde o anonymní ob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 pojmenováváme, pokud se na něj v SQD odkazujeme např. v parametrech zprá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4D4-7CB6-4BE8-A62D-F6EBAB84F8B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vek Objekt v sekvenčním diagram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200400" y="2819520"/>
          <a:ext cx="51055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819520"/>
                    <a:ext cx="51055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09480" y="152388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ázev ob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ázev objektu i název tří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ní ob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3429000"/>
            <a:ext cx="1676520" cy="914400"/>
          </a:xfrm>
          <a:prstGeom prst="wedgeRectCallout">
            <a:avLst>
              <a:gd name="adj1" fmla="val 167800"/>
              <a:gd name="adj2" fmla="val 9479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ára života ob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4952880"/>
            <a:ext cx="1526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2200" y="4191120"/>
            <a:ext cx="2971800" cy="533160"/>
          </a:xfrm>
          <a:prstGeom prst="wedgeRectCallout">
            <a:avLst>
              <a:gd name="adj1" fmla="val -68324"/>
              <a:gd name="adj2" fmla="val 16696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ám vyvolání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62720" y="594360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638680" y="594324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5486400"/>
            <a:ext cx="1676520" cy="838080"/>
          </a:xfrm>
          <a:prstGeom prst="wedgeRectCallout">
            <a:avLst>
              <a:gd name="adj1" fmla="val 117615"/>
              <a:gd name="adj2" fmla="val 244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rušení ob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8006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800600"/>
            <a:ext cx="190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názorňuje délku života objektu v rámci modelovaného scénář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32680" y="487692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názorňuje zpracování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eré probíhá na cílovém objek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FA9-8E5A-4EF6-9A13-AC25B5D3CDA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pořádání sekvenčního diagramu do vrstev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toř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94040" y="29718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znys obj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10280" y="291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vé obj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251460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0600" y="259092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C5E-58B1-483D-B18E-1DBBAAB1F62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sequenceDiagramBasicCourse" descr=""/>
          <p:cNvPicPr/>
          <p:nvPr/>
        </p:nvPicPr>
        <p:blipFill>
          <a:blip r:embed="rId1"/>
          <a:stretch/>
        </p:blipFill>
        <p:spPr>
          <a:xfrm>
            <a:off x="-2362320" y="790560"/>
            <a:ext cx="14783040" cy="5138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33520" y="624852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droj www.modelingstyle.info/sequenceDiagra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BE2-D665-476B-AA3C-5FC178DC43D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základních UML diagram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 Zápis studenta na kurz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se case diagr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33520" y="2558880"/>
            <a:ext cx="7848360" cy="27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DC1-17F7-41E8-B994-4733278035A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up při CRC modelov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brat popis požadav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tvořit první návrh CRC ka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ístit karty na viditelné místo ( tabul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řídy, které spolupracují by měly být umístěny blízko s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ovat používání systé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 třeba určit, která třída zpracuje požadav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řípadně se modifikují tříd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řída, která převezme řízení, musí popsat logiku zprac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FAE-1A7E-4CE6-B68A-E5C56F44FE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kvenční diagram pro popis scénáře případu užit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7180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ce se zap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5237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105520" y="3747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&lt;creat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 jmeno, hes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BBA-4A88-4DA7-8939-6BB0197B275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 Zápis studenta na kurz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33520" y="2697120"/>
            <a:ext cx="8229600" cy="25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237-4467-4EF3-9C9A-9D1066253AF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 Zápis studenta na kurz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kvenční diagr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066680" y="1717560"/>
            <a:ext cx="6400800" cy="4835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0880" y="5486400"/>
            <a:ext cx="624852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jmenovávejte třídy konzistentně s class diagra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ktory konzistentně s use case diagra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oruč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3D8-AD5B-4891-AEF9-F46990918CA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 Zápis studenta na kurz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kvenční diagram s návrat.hodnotam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950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514600" y="4952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571640" y="5486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50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lOpravn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514240" y="5867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5424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lZapi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6019920"/>
            <a:ext cx="3200400" cy="838080"/>
          </a:xfrm>
          <a:prstGeom prst="wedgeRectCallout">
            <a:avLst>
              <a:gd name="adj1" fmla="val -57388"/>
              <a:gd name="adj2" fmla="val -11742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sledek volání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usí se uvádě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110-8439-4583-893E-EC64065FC3D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lání zpráv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bjek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realizováno voláním metody ob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kt C instance tridy Cvic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kt S instance tridy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. zapisStudenta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áva může mít výstupní a vstupní paramet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ypu objekt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z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edávat </a:t>
            </a:r>
            <a:r>
              <a:rPr b="0" lang="cs-CZ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dkazy na obj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453-5FAC-44B6-96E5-D8404FFE326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hy zpráv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ní zprá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 posílá zprávu druhému objektu a nečeká na ukončení činnosti druhého ob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ní zpráv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jednoduch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ílající objekt předá řízení přijímajícímu objektu a sám čeká na zpracování  odeslané zpráv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238-1AE3-444E-A983-60151B08B37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práva - meto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pnost objek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ijímat určitou zprávu znamená, že na tuto zprávu objekt spustí některou z met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základě zpráv můžeme určovat metody ob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bjektů, u kterých končí „šipka“, vznikne nějaká meto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BDB-7488-40A2-8C45-11C212D2E0A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9880" y="3962520"/>
            <a:ext cx="502920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572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1148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ožka objednáv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724280"/>
            <a:ext cx="1981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nož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íslo skl.polož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počti celkovou c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4876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ladová polož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457200"/>
            <a:ext cx="40384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9907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4572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ladová polož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219320"/>
            <a:ext cx="1752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ís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z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a za jed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76320" y="914400"/>
            <a:ext cx="5105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5228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63600" y="1050840"/>
            <a:ext cx="26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dnáv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2819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íslo objednáv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um objednáv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um dodá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žky objednáv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čti cenu objednáv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k objednáv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rušení objednáv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600200"/>
            <a:ext cx="2361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žka objednáv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kazní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144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4648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990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C model objednáv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800600"/>
            <a:ext cx="3886200" cy="1143000"/>
          </a:xfrm>
          <a:prstGeom prst="wedgeRoundRectCallout">
            <a:avLst>
              <a:gd name="adj1" fmla="val 13726"/>
              <a:gd name="adj2" fmla="val -157638"/>
              <a:gd name="adj3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dnávka ví sice o položkách, ale neví, jaké množství bylo objednáno, to ví  tříd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ložka objednávk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5257800"/>
            <a:ext cx="373392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zná cenu za jednotku, proto musí spolupracovat s třídou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kladová polož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F21-2CE5-4536-88FA-E2E9A50AA7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4038480"/>
            <a:ext cx="50292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197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40384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resa do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4495680"/>
            <a:ext cx="1981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s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st štít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80880"/>
            <a:ext cx="617220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9144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4572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kazní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998640"/>
            <a:ext cx="2514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íslo tele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íslo zákazní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d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rušit objednáv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plat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106668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dná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resa dodá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914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038480" y="4495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847-3073-4C42-9F90-56124736F3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07:50:59Z</dcterms:created>
  <dc:creator>Alena Buchalcevová</dc:creator>
  <dc:description/>
  <dc:language>en-US</dc:language>
  <cp:lastModifiedBy>Alena Buchalcevová</cp:lastModifiedBy>
  <dcterms:modified xsi:type="dcterms:W3CDTF">2005-03-21T20:18:06Z</dcterms:modified>
  <cp:revision>88</cp:revision>
  <dc:subject/>
  <dc:title>Diagramy UML</dc:title>
</cp:coreProperties>
</file>